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AD1A-91C5-48C0-B3AA-30FAC8992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E8E4-D920-41CA-B537-E25C4E7B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CB51-D962-4007-B8BC-45CB86FC7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8CE1-95D2-447C-98B2-DE53F8F6A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C156-296E-4AF1-8E56-0013AFC5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92A1-E1EB-4A4F-BFAB-375DB883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7657-4993-4BE8-9336-D4855B26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0EAE-51F3-4426-90A8-D5EECACF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2C81-12DD-40B0-A475-3BC7E325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FA9A-E8FA-4974-993C-A64E50EE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EAD2-CEB9-41B0-A652-86EA708A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7ABE-B3D6-4C17-9F45-4DCC23BB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F6F8-F8A2-4EB8-870B-B8D411BAE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xander Graham Bel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Alex, Cody, Jason, and N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exander Graham Bell  invented the telegraph in 1876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452920" y="2970360"/>
            <a:ext cx="24274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s born in 1847 in Edinburgh, Scotland and died in 1922 in Baddeck, Nova Scotia, in Canad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48320" y="2214720"/>
            <a:ext cx="403848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15:32:06Z</dcterms:created>
  <dc:creator>Montour School District</dc:creator>
  <dc:description/>
  <dc:language>en-US</dc:language>
  <cp:lastModifiedBy>Montour School District</cp:lastModifiedBy>
  <dcterms:modified xsi:type="dcterms:W3CDTF">2008-05-22T13:48:23Z</dcterms:modified>
  <cp:revision>3</cp:revision>
  <dc:subject/>
  <dc:title>Alexander Graham Bell </dc:title>
</cp:coreProperties>
</file>